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6249960" y="860904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7240" y="8785080"/>
            <a:ext cx="2619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6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152280" y="8799480"/>
            <a:ext cx="665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Num" idx="1"/>
          </p:nvPr>
        </p:nvSpPr>
        <p:spPr>
          <a:xfrm>
            <a:off x="5929200" y="8679960"/>
            <a:ext cx="812880" cy="287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A2CE68C-135C-409B-91E3-3799F68C136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2F20081-127D-4151-B1B5-EBFCE003546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04640" y="4378320"/>
            <a:ext cx="612144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78A4993-34E4-4BE5-BA19-E30B91EE874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4116960"/>
            <a:ext cx="794088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411696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411696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48392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48392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411696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411696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411696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55200" y="47628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411696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24640" y="411696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5560" y="4116960"/>
            <a:ext cx="794088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5560" y="4116960"/>
            <a:ext cx="794088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411696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24640" y="411696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0440" y="148392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5320" y="148392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55560" y="411696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0440" y="411696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5320" y="4116960"/>
            <a:ext cx="255672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47628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411696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411696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483920"/>
            <a:ext cx="387504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4116960"/>
            <a:ext cx="7940880" cy="240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Rectangle 6281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282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51268E5-0BD0-4230-90C7-B8EAE454454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1173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2239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04880" indent="22392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312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313"/>
          <p:cNvSpPr/>
          <p:nvPr/>
        </p:nvSpPr>
        <p:spPr>
          <a:xfrm>
            <a:off x="68972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TopBand_Final_wht_0314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34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PPt_4face_021208.jpg"/>
          <p:cNvPicPr/>
          <p:nvPr/>
        </p:nvPicPr>
        <p:blipFill>
          <a:blip r:embed="rId2"/>
          <a:stretch/>
        </p:blipFill>
        <p:spPr>
          <a:xfrm>
            <a:off x="0" y="1911240"/>
            <a:ext cx="9144000" cy="2432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78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79"/>
          <p:cNvSpPr/>
          <p:nvPr/>
        </p:nvSpPr>
        <p:spPr>
          <a:xfrm>
            <a:off x="6897240" y="6672240"/>
            <a:ext cx="87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80"/>
          <p:cNvSpPr/>
          <p:nvPr/>
        </p:nvSpPr>
        <p:spPr>
          <a:xfrm>
            <a:off x="193680" y="6672240"/>
            <a:ext cx="96192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81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DFB874D-38B6-4888-A71D-365211BDD14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31" descr="Cisco_NewLogo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33" descr="Cisco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55560" y="2014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sample1.xls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1040" y="2671920"/>
            <a:ext cx="397368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1" lang="en-US" sz="3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briel Fuster gbfuster@cisc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chnical Advocacy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2. Support Child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CNAM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708ca1"/>
                </a:solidFill>
                <a:latin typeface="Arial"/>
              </a:rPr>
              <a:t>“</a:t>
            </a:r>
            <a:r>
              <a:rPr b="0" i="1" lang="en-ZA" sz="2000" spc="-1" strike="noStrike">
                <a:solidFill>
                  <a:srgbClr val="708ca1"/>
                </a:solidFill>
                <a:latin typeface="Arial"/>
              </a:rPr>
              <a:t>How do I …. On CNAMS?</a:t>
            </a:r>
            <a:r>
              <a:rPr b="0" lang="en-ZA" sz="2000" spc="-1" strike="noStrike">
                <a:solidFill>
                  <a:srgbClr val="708ca1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Any experienced CATC/RA membe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Curriculum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708ca1"/>
                </a:solidFill>
                <a:latin typeface="Arial"/>
              </a:rPr>
              <a:t>“</a:t>
            </a:r>
            <a:r>
              <a:rPr b="0" i="1" lang="en-ZA" sz="2000" spc="-1" strike="noStrike">
                <a:solidFill>
                  <a:srgbClr val="708ca1"/>
                </a:solidFill>
                <a:latin typeface="Arial"/>
              </a:rPr>
              <a:t>I am having a problem with …. in chapter ….</a:t>
            </a:r>
            <a:r>
              <a:rPr b="0" lang="en-ZA" sz="2000" spc="-1" strike="noStrike">
                <a:solidFill>
                  <a:srgbClr val="708ca1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ypically CL or instructo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Operational/Business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708ca1"/>
                </a:solidFill>
                <a:latin typeface="Arial"/>
              </a:rPr>
              <a:t>“</a:t>
            </a:r>
            <a:r>
              <a:rPr b="0" i="1" lang="en-ZA" sz="2000" spc="-1" strike="noStrike">
                <a:solidFill>
                  <a:srgbClr val="708ca1"/>
                </a:solidFill>
                <a:latin typeface="Arial"/>
              </a:rPr>
              <a:t>How can I promote the program to female students?</a:t>
            </a:r>
            <a:r>
              <a:rPr b="0" lang="en-ZA" sz="2000" spc="-1" strike="noStrike">
                <a:solidFill>
                  <a:srgbClr val="708ca1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ypically LMC and/or 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3. Assist Qualit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Support Visits AKA Quality Visit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This is not a witch hu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Pillars of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trained and committed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cademy staff and instr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’s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anag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itted to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ly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equipp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ademy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Ultimate proof of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Additional Parent responsibiliti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reate opportunities for child’s </a:t>
            </a: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continuous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e.g. Regional events, during Support Visi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Work with AAM to </a:t>
            </a: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grow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ecruit child academy/support program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Ensure </a:t>
            </a: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flow of communication 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to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emember that communication is a two-way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Curricula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Other important issu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Plan for SUSTAINAB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etention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raining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Support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Growing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LA recru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Additional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Rememb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Successful Children mean that the Parents are doing a good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Your AAM wants to suppor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Your CATC wants to suppor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I want to suppor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qa4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813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0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36480" y="2770200"/>
            <a:ext cx="5159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Responsibilities of a Child Acade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2800" spc="-1" strike="noStrike">
                <a:solidFill>
                  <a:srgbClr val="708ca1"/>
                </a:solidFill>
                <a:latin typeface="Arial"/>
              </a:rPr>
              <a:t>What are the responsibilities of the child academy?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qa4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813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4489560" y="593640"/>
            <a:ext cx="16488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636480" y="2770200"/>
            <a:ext cx="3349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 and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3200" spc="-1" strike="noStrike">
                <a:solidFill>
                  <a:srgbClr val="708ca1"/>
                </a:solidFill>
                <a:latin typeface="Arial"/>
              </a:rPr>
              <a:t>Financial sustainabilit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ow much does it cost you to run NetAc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3200" spc="-1" strike="noStrike">
                <a:solidFill>
                  <a:srgbClr val="708ca1"/>
                </a:solidFill>
                <a:latin typeface="Arial"/>
              </a:rPr>
              <a:t>Financial sustainabilit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ors to take into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ining of instr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ment purc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structor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port F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 u="sng">
                <a:solidFill>
                  <a:srgbClr val="83a2cf"/>
                </a:solidFill>
                <a:uFillTx/>
                <a:latin typeface="Arial"/>
                <a:hlinkClick r:id="rId1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stainabilit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3640" y="2014560"/>
            <a:ext cx="85690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3" descr="qa4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813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0"/>
          <p:cNvSpPr/>
          <p:nvPr/>
        </p:nvSpPr>
        <p:spPr>
          <a:xfrm>
            <a:off x="4489560" y="593640"/>
            <a:ext cx="16488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636480" y="2770200"/>
            <a:ext cx="3349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3200" spc="-1" strike="noStrike">
                <a:solidFill>
                  <a:srgbClr val="708ca1"/>
                </a:solidFill>
                <a:latin typeface="Arial"/>
              </a:rPr>
              <a:t>Quality sustainabilit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and support instructor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i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is a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3200" spc="-1" strike="noStrike">
                <a:solidFill>
                  <a:srgbClr val="708ca1"/>
                </a:solidFill>
                <a:latin typeface="Arial"/>
              </a:rPr>
              <a:t>Financial sustainabilit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how much it costs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ise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s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s-ES" sz="3200" spc="-1" strike="noStrike">
                <a:solidFill>
                  <a:srgbClr val="708ca1"/>
                </a:solidFill>
                <a:latin typeface="Arial"/>
              </a:rPr>
              <a:t>Curriculum Integ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“one fits all mode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ork with NetAcad Team to suppor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uarantees a measure of sustain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3" descr="qa4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813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0"/>
          <p:cNvSpPr/>
          <p:nvPr/>
        </p:nvSpPr>
        <p:spPr>
          <a:xfrm>
            <a:off x="4489560" y="593640"/>
            <a:ext cx="16488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636480" y="2770200"/>
            <a:ext cx="3349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 and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0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0" descr="CNA_largo-onwhite"/>
          <p:cNvPicPr/>
          <p:nvPr/>
        </p:nvPicPr>
        <p:blipFill>
          <a:blip r:embed="rId1"/>
          <a:stretch/>
        </p:blipFill>
        <p:spPr>
          <a:xfrm>
            <a:off x="1508040" y="2741760"/>
            <a:ext cx="6097680" cy="89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9" descr="Cisco_WHT_Logo.gif"/>
          <p:cNvPicPr/>
          <p:nvPr/>
        </p:nvPicPr>
        <p:blipFill>
          <a:blip r:embed="rId1"/>
          <a:stretch/>
        </p:blipFill>
        <p:spPr>
          <a:xfrm>
            <a:off x="3352680" y="2619360"/>
            <a:ext cx="2400480" cy="12668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0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3" descr="qa4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81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636480" y="2421000"/>
            <a:ext cx="47991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Qualitative sustain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What is Quality?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2251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600" spc="-1" strike="noStrike">
                <a:solidFill>
                  <a:srgbClr val="000000"/>
                </a:solidFill>
                <a:latin typeface="Arial"/>
              </a:rPr>
              <a:t>Q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What is QAP?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QAP - The guideline for quality at an Acade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Quality Assurance Plan and Academy Operations Guide for Academy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It summarizes the rules and guidelines to ensure student success and satisfaction. It tells us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 hierarchical support structure in th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 requirements for Academy instru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 requirements for an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The Basic program rules/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Measuring quality at an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lanning to improve quality at an acade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Academy Typ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By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Parent Acade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20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hild Academ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3" descr="qa4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181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0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36480" y="2421000"/>
            <a:ext cx="47991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Role and Function of a Parent Acade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Three basic func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2400" spc="-1" strike="noStrike">
                <a:solidFill>
                  <a:srgbClr val="b21a1a"/>
                </a:solidFill>
                <a:latin typeface="Arial"/>
              </a:rPr>
              <a:t>Train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 instr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2400" spc="-1" strike="noStrike">
                <a:solidFill>
                  <a:srgbClr val="b21a1a"/>
                </a:solidFill>
                <a:latin typeface="Arial"/>
              </a:rPr>
              <a:t>Support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 Child acade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2400" spc="-1" strike="noStrike">
                <a:solidFill>
                  <a:srgbClr val="b21a1a"/>
                </a:solidFill>
                <a:latin typeface="Arial"/>
              </a:rPr>
              <a:t>Assist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 Child with </a:t>
            </a:r>
            <a:r>
              <a:rPr b="1" lang="en-ZA" sz="2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476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ZA" sz="3200" spc="-1" strike="noStrike">
                <a:solidFill>
                  <a:srgbClr val="708ca1"/>
                </a:solidFill>
                <a:latin typeface="Arial"/>
              </a:rPr>
              <a:t>1. Train Instructor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5560" y="1483920"/>
            <a:ext cx="7940880" cy="50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Academy </a:t>
            </a: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instructors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 need to meet the following </a:t>
            </a: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Know their subject field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Be a good teacher (best practices, student engagement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Abide by the program rules and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Child proposes, Parent dis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In addition 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a Parent Academy instruc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Arial"/>
              </a:rPr>
              <a:t>Must be able to share teaching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LMC and CL’s </a:t>
            </a:r>
            <a:r>
              <a:rPr b="0" lang="en-ZA" sz="2400" spc="-1" strike="noStrike">
                <a:solidFill>
                  <a:srgbClr val="c00000"/>
                </a:solidFill>
                <a:latin typeface="Arial"/>
              </a:rPr>
              <a:t>responsibility</a:t>
            </a:r>
            <a:r>
              <a:rPr b="0" lang="en-ZA" sz="2400" spc="-1" strike="noStrike">
                <a:solidFill>
                  <a:srgbClr val="000000"/>
                </a:solidFill>
                <a:latin typeface="Arial"/>
              </a:rPr>
              <a:t> to ensure that their instructors meet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9:21:58Z</dcterms:created>
  <dc:creator>Cisco Systems, Inc.</dc:creator>
  <dc:description/>
  <cp:keywords/>
  <dc:language>en-US</dc:language>
  <cp:lastModifiedBy>Cisco Systems, Inc.</cp:lastModifiedBy>
  <cp:lastPrinted>1999-01-27T00:54:54Z</cp:lastPrinted>
  <dcterms:modified xsi:type="dcterms:W3CDTF">2009-03-25T07:48:03Z</dcterms:modified>
  <cp:revision>30</cp:revision>
  <dc:subject>Guide for Creating Powerpoint Presentations</dc:subject>
  <dc:title>Presentation Title Size 30PT</dc:title>
</cp:coreProperties>
</file>